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BA6-CDB3-4DDB-9419-035CD5B09C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DE = Fahrzeug = Netzwerkteilnehmer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DDE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rz andeuten, dass MAC oben drüber kom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hort Inter Fram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062760"/>
            <a:ext cx="823104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6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49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plomvor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828800"/>
            <a:ext cx="7764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I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Ma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rndt Oberhöff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28.6.2004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outing Strategi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197000"/>
            <a:ext cx="3529080" cy="22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429000"/>
            <a:ext cx="3672000" cy="21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197000"/>
            <a:ext cx="7201080" cy="439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73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pologie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005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pologie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s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005360"/>
            <a:ext cx="417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sbasiert /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ontention Based Forwarding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itionsbasierter Routingalgorith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t ohne Nachbarschaftsanzeiger (Beacons)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antwortung für Bestimmung welche Node das Packet weiterleitet liegt nicht länger im Absender, sondern der Empfänger entscheidet auf Grund seiner Eignung, ob er als möglicher Weiterleiter geeigne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eedy (bester Fortschritt) – Weiterleitung mit Unterdrückung möglicher anderer Weiterleiter in Reichweite anhand der Packe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BF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ket Duplik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43480" y="1673280"/>
            <a:ext cx="162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Z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00000">
            <a:off x="1276560" y="-1417680"/>
            <a:ext cx="6587640" cy="67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5" y="5055"/>
                </a:moveTo>
                <a:arcTo wR="10800" hR="10800" stAng="-8871715" swAng="12280704"/>
                <a:lnTo>
                  <a:pt x="10800" y="10800"/>
                </a:lnTo>
                <a:close/>
              </a:path>
              <a:path fill="none" w="21600" h="21600">
                <a:moveTo>
                  <a:pt x="1655" y="5055"/>
                </a:moveTo>
                <a:arcTo wR="10800" hR="10800" stAng="-8871715" swAng="12280704"/>
              </a:path>
            </a:pathLst>
          </a:custGeom>
          <a:noFill/>
          <a:ln w="1260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8920" y="5214960"/>
            <a:ext cx="144360" cy="1429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3840" y="19494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0200" y="3489480"/>
            <a:ext cx="359856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9"/>
                </a:moveTo>
                <a:arcTo wR="10800" hR="10800" stAng="-10796656" swAng="10796656"/>
                <a:lnTo>
                  <a:pt x="10800" y="10800"/>
                </a:lnTo>
                <a:close/>
              </a:path>
              <a:path fill="none" w="21600" h="21600">
                <a:moveTo>
                  <a:pt x="0" y="10789"/>
                </a:moveTo>
                <a:arcTo wR="10800" hR="10800" stAng="-10796656" swAng="10796656"/>
              </a:path>
            </a:pathLst>
          </a:custGeom>
          <a:noFill/>
          <a:ln w="1260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4960" y="2108160"/>
            <a:ext cx="3598560" cy="36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69" y="19476"/>
                </a:moveTo>
                <a:arcTo wR="10800" hR="10800" stAng="7592865" swAng="14007135"/>
                <a:lnTo>
                  <a:pt x="10800" y="10800"/>
                </a:lnTo>
                <a:close/>
              </a:path>
              <a:path fill="none" w="21600" h="21600">
                <a:moveTo>
                  <a:pt x="4369" y="19476"/>
                </a:moveTo>
                <a:arcTo wR="10800" hR="10800" stAng="7592865" swAng="14007135"/>
              </a:path>
            </a:pathLst>
          </a:custGeom>
          <a:noFill/>
          <a:ln w="32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106720"/>
            <a:ext cx="3598560" cy="359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9"/>
                </a:moveTo>
                <a:arcTo wR="10800" hR="10800" stAng="-10796656" swAng="14510266"/>
                <a:lnTo>
                  <a:pt x="10800" y="10800"/>
                </a:lnTo>
                <a:close/>
              </a:path>
              <a:path fill="none" w="21600" h="21600">
                <a:moveTo>
                  <a:pt x="0" y="10789"/>
                </a:moveTo>
                <a:arcTo wR="10800" hR="10800" stAng="-10796656" swAng="14510266"/>
              </a:path>
            </a:pathLst>
          </a:custGeom>
          <a:noFill/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833640"/>
            <a:ext cx="14472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97560" y="3833640"/>
            <a:ext cx="14436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5602320"/>
            <a:ext cx="144360" cy="1429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70440" y="5568840"/>
            <a:ext cx="30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öglicher Näch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55720" y="5357880"/>
            <a:ext cx="232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eiterl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uleaux Triang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67360" y="1341360"/>
            <a:ext cx="45068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 Eingrenzen, bzw. Begrenzen der möglichen Weiterleitungsfahrzeuge wird in CBF das Reuleaux Dreieck benu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öglichen Weiterleiter befinden sich zueinander in Funkreichweite, somit werden Duplikate verhind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strak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traß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physikalische Verbindung, wenn genug Teilnehmer die Straße befahren, dass eine Weiterleitung zur nächsten Kreuzung erfolgreich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Kreuz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Knotenpunke zwischen den Straßenabschnitten bekommen eine besondere Bedeutung, da sie Wissen über die Link States sammeln und verbr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P unterteilt die Teilnehmer in 3 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0 - Kreuzungsfahrzeuge, im Status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- Straßenfahrzeuge, nicht in Reichweite einer Kreu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 - Kreuzungsfahrzeuge, im Status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hrzeuge gelten als Kreuzungsfahrzeuge, wenn sie einen gewissen Abstand zum Mittelpunkt unterschreiten (r = 7 Meter im Kommend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 Zustand bei Ankunft in Kreuzu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hmen nicht direkt an der Weiterleitung tei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ehmen in letzter Instanz CBF Weiterleitung der Streetnodes, sollte kein Kreuzungs-Master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üssen daher um extra Zeitspanne verzögert werden, weil sonst Slaves, die sich genau im Abstand r befinden ohne Delay die Weiterleitung beginnen und so einen etwaigen Master stören wü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922480" cy="525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02000" y="1112760"/>
            <a:ext cx="49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20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  = T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– p)</a:t>
            </a:r>
            <a:br>
              <a:rPr sz="32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max.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ortschritt → Ziel,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[0,1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8440" y="3645000"/>
            <a:ext cx="5594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p = (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Quelle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Nächster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Entfernung(A→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unkreichw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ahme der CBF Grundidee, dass der Empfänger an Hand seiner Eignung entscheidet, ob er an dem Weiterleitungsprozess teilnimm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leitung der Pakete von Kreuzung zu Kreuzung mittels des CBF Contention Prinzi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die </a:t>
            </a:r>
            <a:r>
              <a:rPr b="0" lang="de-DE" sz="2800" spc="-1" strike="noStrike">
                <a:solidFill>
                  <a:srgbClr val="339933"/>
                </a:solidFill>
                <a:latin typeface="Arial"/>
              </a:rPr>
              <a:t>Breite der Straß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Funkreichweit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rden Paketduplikate auf Grund von mehreren von einander unbemerkten Weiterleitern un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Paketursprüngen werden die Pakete zur Wegewahl an die angrenzende Kreuzung geschickt, die näher am Ziel l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dortige Master kann bessere Routing Entscheidungen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hal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8472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bile Ad-Hoc Netzwerke (MANET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itionsbasierte Routingalgorithm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ention Based Forwardi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RP Algorithmu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Kreuzung mit mindestens einem Fahrzeug soll genau einen Master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 versendet Linkstate Request &amp; Replies zu den angrenzenden Kreu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19400" y="1197000"/>
            <a:ext cx="47149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80920" y="863640"/>
            <a:ext cx="7245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463760"/>
            <a:ext cx="6391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80920" y="831960"/>
            <a:ext cx="7426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1336680"/>
            <a:ext cx="65260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abschiedu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len Dank für Ihr Inte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obile Ad-Hoc Netze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 durch Funkreichw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Teilnehmer ist Endsystem und Router zu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satzbereich besonders interessant in Gebieten, deren Infrastruktur durch Krieg oder Umweltkatastrophen zerstört wurde oder generell dort, wo keine feste Infrastruktur vorhanden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Verbauen von Wireless LAN Controllern in Fahrzeugen begründet die Vehicular Ad-Hoc Networks (VA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ehicular Ad-Hoc Networks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V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ige Hauptprobleme von MANET sind schlagartig ge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mversorgung für die Mobilen Geräte in Kfz ist unproblem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Rechenleistung der angeschlossenen Geräte stellt keine wirkliche Begrenzung mehr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 ist in modernen Fahrzeug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eitung von Verkehrs- und Sicherheitsbezogenen Meldungen, wie z.B. Stau, schlechte Straßenbeschaffenheit oder Glatt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NE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Umstand, d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hrzeuge an Straßen gebu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ßen meist Geschwindigkeitsbeschränkungen auf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ibt eine sehr interessante Forschungsumgeb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EEE 802.11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4618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5157720"/>
            <a:ext cx="460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irect Sequence Spread Spectrum</a:t>
            </a:r>
            <a:br>
              <a:rPr sz="1600"/>
            </a:b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2,4 GHz Frequenz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The Hidden 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824720" cy="2997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4005360"/>
            <a:ext cx="82803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dden Nod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det an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e0"/>
                </a:solidFill>
                <a:latin typeface="Arial"/>
              </a:rPr>
              <a:t>A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s nicht fest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e0"/>
                </a:solidFill>
                <a:latin typeface="Arial"/>
              </a:rPr>
              <a:t>A</a:t>
            </a:r>
            <a:r>
              <a:rPr b="0" lang="de-DE" sz="3200" spc="-1" strike="noStrike">
                <a:solidFill>
                  <a:srgbClr val="339933"/>
                </a:solidFill>
                <a:latin typeface="Arial"/>
              </a:rPr>
              <a:t>→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llidiert mit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de-DE" sz="3200" spc="-1" strike="noStrike">
                <a:solidFill>
                  <a:srgbClr val="339933"/>
                </a:solidFill>
                <a:latin typeface="Arial"/>
                <a:ea typeface="Arial"/>
              </a:rPr>
              <a:t>→</a:t>
            </a:r>
            <a:r>
              <a:rPr b="0" lang="de-DE" sz="28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edia Access Control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riffs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int Coodr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ötigt Access Points und widerspricht dem MANET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Wingdings" charset="2"/>
              <a:buChar char="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MA /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Wingdings" charset="2"/>
              <a:buChar char="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CSMA / CA  (hand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dy to Send Paket mit Informationen über den kommenden Datentransfer (ID des Empfängers, Datenvolumen und Dauer des Transfers inklusive Anfrage, Daten und Bestätigu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ear to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edia Access Control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197000"/>
          <a:ext cx="82170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7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68360" y="3284640"/>
            <a:ext cx="820728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FS – Inter Frame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StarSymbol"/>
              <a:buChar char="▪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schiedene Prioritä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ort-ISF &gt; PCF &gt; D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StarSymbol"/>
              <a:buChar char="▪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ttbewerbsfenster mit vielen Timeslot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8:56:12Z</dcterms:created>
  <dc:creator>Gorwen</dc:creator>
  <dc:description/>
  <dc:language>en-US</dc:language>
  <cp:lastModifiedBy>Gorwen</cp:lastModifiedBy>
  <dcterms:modified xsi:type="dcterms:W3CDTF">2004-06-27T22:57:19Z</dcterms:modified>
  <cp:revision>17</cp:revision>
  <dc:subject/>
  <dc:title>MIRP</dc:title>
</cp:coreProperties>
</file>