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A634-4C01-4FAB-8F80-799A5F779A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ankabf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DE = Fahrzeug = Netzwerkteilnehmer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her empfohlene Weiterleitung über eine Kreuzung hinaus, wenn eine Wegewahl bereits getroffen wurde, ermöglicht ein Überspringen der Kreuz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ige positionsbasierte Routingalgorithmen wurden nicht für Stadtszenarien entwor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point runterladen benut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6062760"/>
            <a:ext cx="823104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6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49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plomvor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828800"/>
            <a:ext cx="77644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I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Map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out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Arndt Oberhöff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28.6.2004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3698640"/>
            <a:ext cx="82170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nahme der CBF Grundidee, dass der Empfänger an Hand seiner Eignung entscheidet, ob er an dem Weiterleitungsprozess teilnimm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leitung der Pakete von Kreuzung zu Kreuzung mittels des CBF Contention Prinzip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 die </a:t>
            </a:r>
            <a:r>
              <a:rPr b="0" lang="de-DE" sz="1800" spc="-1" strike="noStrike">
                <a:solidFill>
                  <a:srgbClr val="0000e0"/>
                </a:solidFill>
                <a:latin typeface="Arial"/>
              </a:rPr>
              <a:t>Breite der Straß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lang="de-DE" sz="1800" spc="-1" strike="noStrike">
                <a:solidFill>
                  <a:srgbClr val="017f46"/>
                </a:solidFill>
                <a:latin typeface="Arial"/>
              </a:rPr>
              <a:t>Funkreichwei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rden Paketduplikate auf Grund von mehreren von einander unbemerkten Weiterleitern un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745920" y="2033280"/>
            <a:ext cx="22356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7542000" y="1719000"/>
            <a:ext cx="22356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97000" y="20336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38600" y="203364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920" y="998640"/>
            <a:ext cx="585720" cy="67464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385920" y="2214360"/>
            <a:ext cx="585720" cy="58572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11280" y="2214720"/>
            <a:ext cx="5446800" cy="583920"/>
          </a:xfrm>
          <a:custGeom>
            <a:avLst/>
            <a:gdLst/>
            <a:ahLst/>
            <a:rect l="l" t="t" r="r" b="b"/>
            <a:pathLst>
              <a:path w="3431" h="368">
                <a:moveTo>
                  <a:pt x="0" y="368"/>
                </a:moveTo>
                <a:lnTo>
                  <a:pt x="0" y="0"/>
                </a:lnTo>
                <a:lnTo>
                  <a:pt x="3431" y="0"/>
                </a:lnTo>
                <a:lnTo>
                  <a:pt x="3431" y="3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0800000">
            <a:off x="1511280" y="953640"/>
            <a:ext cx="5446800" cy="719280"/>
          </a:xfrm>
          <a:custGeom>
            <a:avLst/>
            <a:gdLst/>
            <a:ahLst/>
            <a:rect l="l" t="t" r="r" b="b"/>
            <a:pathLst>
              <a:path w="3431" h="368">
                <a:moveTo>
                  <a:pt x="0" y="368"/>
                </a:moveTo>
                <a:lnTo>
                  <a:pt x="0" y="0"/>
                </a:lnTo>
                <a:lnTo>
                  <a:pt x="3431" y="0"/>
                </a:lnTo>
                <a:lnTo>
                  <a:pt x="3431" y="3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7519320" y="977040"/>
            <a:ext cx="720720" cy="67464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0800000">
            <a:off x="7542360" y="2214720"/>
            <a:ext cx="674640" cy="58392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2360" y="1719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21120" y="20336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22880" y="1719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27720" y="1719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1640" y="704880"/>
            <a:ext cx="299736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1280" y="695160"/>
            <a:ext cx="299736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7000" y="368280"/>
            <a:ext cx="299700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65360" y="728640"/>
            <a:ext cx="299736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37240" y="368280"/>
            <a:ext cx="299700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62000" y="1673280"/>
            <a:ext cx="0" cy="541440"/>
          </a:xfrm>
          <a:prstGeom prst="line">
            <a:avLst/>
          </a:prstGeom>
          <a:ln w="25560">
            <a:solidFill>
              <a:srgbClr val="00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reet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103280"/>
            <a:ext cx="8217000" cy="19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aketursprüngen werden die Pakete zur Wegewahl an die angrenzende Kreuzung geschickt, die näher am Ziel lie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dortige Master kann bessere Routing Entscheidungen tr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0400" y="1269720"/>
            <a:ext cx="8019000" cy="2948760"/>
            <a:chOff x="320400" y="1269720"/>
            <a:chExt cx="8019000" cy="2948760"/>
          </a:xfrm>
        </p:grpSpPr>
        <p:sp>
          <p:nvSpPr>
            <p:cNvPr id="296" name=""/>
            <p:cNvSpPr/>
            <p:nvPr/>
          </p:nvSpPr>
          <p:spPr>
            <a:xfrm rot="515400">
              <a:off x="535680" y="1309680"/>
              <a:ext cx="585720" cy="67428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715400">
              <a:off x="360720" y="2512440"/>
              <a:ext cx="585360" cy="58572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15400">
              <a:off x="1446480" y="3043440"/>
              <a:ext cx="5446800" cy="583560"/>
            </a:xfrm>
            <a:custGeom>
              <a:avLst/>
              <a:gdLst/>
              <a:ahLst/>
              <a:rect l="l" t="t" r="r" b="b"/>
              <a:pathLst>
                <a:path w="3431" h="368">
                  <a:moveTo>
                    <a:pt x="0" y="368"/>
                  </a:moveTo>
                  <a:lnTo>
                    <a:pt x="0" y="0"/>
                  </a:lnTo>
                  <a:lnTo>
                    <a:pt x="3431" y="0"/>
                  </a:lnTo>
                  <a:lnTo>
                    <a:pt x="3431" y="3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1315400">
              <a:off x="1624320" y="1796400"/>
              <a:ext cx="5446800" cy="718920"/>
            </a:xfrm>
            <a:custGeom>
              <a:avLst/>
              <a:gdLst/>
              <a:ahLst/>
              <a:rect l="l" t="t" r="r" b="b"/>
              <a:pathLst>
                <a:path w="3431" h="368">
                  <a:moveTo>
                    <a:pt x="0" y="368"/>
                  </a:moveTo>
                  <a:lnTo>
                    <a:pt x="0" y="0"/>
                  </a:lnTo>
                  <a:lnTo>
                    <a:pt x="3431" y="0"/>
                  </a:lnTo>
                  <a:lnTo>
                    <a:pt x="3431" y="3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915400">
              <a:off x="7591680" y="2363760"/>
              <a:ext cx="720360" cy="67464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1315400">
              <a:off x="7436520" y="3587760"/>
              <a:ext cx="674640" cy="58356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15400">
              <a:off x="3719520" y="2489040"/>
              <a:ext cx="22356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288280" y="458640"/>
            <a:ext cx="244440" cy="225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97200" y="267660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92920" y="1063800"/>
            <a:ext cx="199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85920" y="593280"/>
            <a:ext cx="7111800" cy="1746360"/>
          </a:xfrm>
          <a:prstGeom prst="line">
            <a:avLst/>
          </a:prstGeom>
          <a:ln w="25560">
            <a:solidFill>
              <a:srgbClr val="00008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272360" y="593640"/>
            <a:ext cx="1125360" cy="2610000"/>
          </a:xfrm>
          <a:prstGeom prst="line">
            <a:avLst/>
          </a:prstGeom>
          <a:ln w="25560">
            <a:solidFill>
              <a:srgbClr val="00008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32360" y="3203640"/>
            <a:ext cx="853920" cy="720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57720" y="3203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7920" y="31910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81640" y="3203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32360" y="338472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56400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32360" y="37432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49520" y="3187800"/>
            <a:ext cx="141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34960" y="3191040"/>
            <a:ext cx="141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76120" y="320364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60120" y="317988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62480" y="2529000"/>
            <a:ext cx="523800" cy="809640"/>
          </a:xfrm>
          <a:custGeom>
            <a:avLst/>
            <a:gdLst/>
            <a:ahLst/>
            <a:rect l="l" t="t" r="r" b="b"/>
            <a:pathLst>
              <a:path w="330" h="510">
                <a:moveTo>
                  <a:pt x="217" y="0"/>
                </a:moveTo>
                <a:cubicBezTo>
                  <a:pt x="108" y="127"/>
                  <a:pt x="0" y="255"/>
                  <a:pt x="19" y="340"/>
                </a:cubicBezTo>
                <a:cubicBezTo>
                  <a:pt x="38" y="425"/>
                  <a:pt x="278" y="482"/>
                  <a:pt x="330" y="510"/>
                </a:cubicBezTo>
              </a:path>
            </a:pathLst>
          </a:custGeom>
          <a:noFill/>
          <a:ln w="19080">
            <a:solidFill>
              <a:srgbClr val="ff66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146640" y="3740040"/>
            <a:ext cx="2411280" cy="342720"/>
            <a:chOff x="6146640" y="3740040"/>
            <a:chExt cx="2411280" cy="342720"/>
          </a:xfrm>
        </p:grpSpPr>
        <p:sp>
          <p:nvSpPr>
            <p:cNvPr id="321" name=""/>
            <p:cNvSpPr/>
            <p:nvPr/>
          </p:nvSpPr>
          <p:spPr>
            <a:xfrm>
              <a:off x="6146640" y="3740040"/>
              <a:ext cx="2411280" cy="336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0376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1164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1664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2308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27720" y="3746520"/>
              <a:ext cx="0" cy="3362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46640" y="3191040"/>
            <a:ext cx="12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1.66667E-006 0.08703 E">
                                      <p:cBhvr>
                                        <p:cTn id="616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5920" y="4284720"/>
            <a:ext cx="7839000" cy="17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 Kreuzung mit mindestens einem Fahrzeug soll genau einen Mast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 versendet Linkstate Request &amp; Replies zu den angrenzenden Kreu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mpfang von Linkstate Replies, sowie Datenpakete anderer angrenzender Kreuzungen führt zu Routingtabelleneinträ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57360" y="1314360"/>
          <a:ext cx="7964280" cy="2343240"/>
        </p:xfrm>
        <a:graphic>
          <a:graphicData uri="http://schemas.openxmlformats.org/drawingml/2006/table">
            <a:tbl>
              <a:tblPr/>
              <a:tblGrid>
                <a:gridCol w="628560"/>
                <a:gridCol w="1081080"/>
                <a:gridCol w="584280"/>
                <a:gridCol w="1306440"/>
                <a:gridCol w="1484280"/>
                <a:gridCol w="990720"/>
                <a:gridCol w="765000"/>
                <a:gridCol w="1123920"/>
              </a:tblGrid>
              <a:tr h="146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et 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ction</a:t>
                      </a:r>
                      <a:br>
                        <a:rPr sz="3200"/>
                      </a:b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at e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41280" y="2619360"/>
            <a:ext cx="1440000" cy="98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41280" y="1112760"/>
            <a:ext cx="1440000" cy="110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32000" y="1089000"/>
            <a:ext cx="4275360" cy="1125720"/>
          </a:xfrm>
          <a:custGeom>
            <a:avLst/>
            <a:gdLst/>
            <a:ahLst/>
            <a:rect l="l" t="t" r="r" b="b"/>
            <a:pathLst>
              <a:path w="2693" h="709">
                <a:moveTo>
                  <a:pt x="0" y="0"/>
                </a:moveTo>
                <a:lnTo>
                  <a:pt x="0" y="709"/>
                </a:lnTo>
                <a:lnTo>
                  <a:pt x="1701" y="709"/>
                </a:lnTo>
                <a:lnTo>
                  <a:pt x="2693" y="2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2000" y="1898640"/>
            <a:ext cx="4410360" cy="1709640"/>
          </a:xfrm>
          <a:custGeom>
            <a:avLst/>
            <a:gdLst/>
            <a:ahLst/>
            <a:rect l="l" t="t" r="r" b="b"/>
            <a:pathLst>
              <a:path w="2778" h="1077">
                <a:moveTo>
                  <a:pt x="0" y="1077"/>
                </a:moveTo>
                <a:lnTo>
                  <a:pt x="0" y="454"/>
                </a:lnTo>
                <a:lnTo>
                  <a:pt x="1786" y="454"/>
                </a:lnTo>
                <a:lnTo>
                  <a:pt x="277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189864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54680" y="226368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2710800" y="201744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402000" y="1359000"/>
            <a:ext cx="506520" cy="6555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76280" y="3833640"/>
            <a:ext cx="7839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ave merkt sich den Zeitpunkt des Kreuzungseintritts &amp; aktivier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Timerablauf Master@Junction </a:t>
            </a:r>
            <a:r>
              <a:rPr b="0" lang="de-DE" sz="2000" spc="-1" strike="noStrike">
                <a:solidFill>
                  <a:srgbClr val="777777"/>
                </a:solidFill>
                <a:latin typeface="Arial"/>
              </a:rPr>
              <a:t>(Request mit Eintrittsz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and von Linkstate Paketen an die angrenzenden Kreu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mpfang von Linkstate Replies, sowie Datenpakete anderer angrenzender Kreuzungen führt zu Routingtabelleneinträ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90800" y="2619360"/>
            <a:ext cx="123840" cy="11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19360" y="2343240"/>
            <a:ext cx="123840" cy="11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0800" y="2103480"/>
            <a:ext cx="123840" cy="11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93920" y="2398680"/>
            <a:ext cx="123840" cy="11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-0.19098 -2.59259E-006 E">
                                      <p:cBhvr>
                                        <p:cTn id="635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29635 0.00115 L 0.65625 -0.24653 E">
                                      <p:cBhvr>
                                        <p:cTn id="688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90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3.33333E-006 0.62847 E">
                                      <p:cBhvr>
                                        <p:cTn id="692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-0.30504 1.48148E-006 E">
                                      <p:cBhvr>
                                        <p:cTn id="69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46280" y="1112760"/>
            <a:ext cx="5986440" cy="4140360"/>
            <a:chOff x="746280" y="1112760"/>
            <a:chExt cx="5986440" cy="4140360"/>
          </a:xfrm>
        </p:grpSpPr>
        <p:sp>
          <p:nvSpPr>
            <p:cNvPr id="347" name=""/>
            <p:cNvSpPr/>
            <p:nvPr/>
          </p:nvSpPr>
          <p:spPr>
            <a:xfrm>
              <a:off x="4211640" y="1292040"/>
              <a:ext cx="2521080" cy="2295720"/>
            </a:xfrm>
            <a:custGeom>
              <a:avLst/>
              <a:gdLst/>
              <a:ahLst/>
              <a:rect l="l" t="t" r="r" b="b"/>
              <a:pathLst>
                <a:path w="1588" h="1446">
                  <a:moveTo>
                    <a:pt x="1049" y="0"/>
                  </a:moveTo>
                  <a:lnTo>
                    <a:pt x="0" y="851"/>
                  </a:lnTo>
                  <a:lnTo>
                    <a:pt x="1588" y="14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46280" y="1112760"/>
              <a:ext cx="5581440" cy="4140360"/>
              <a:chOff x="746280" y="1112760"/>
              <a:chExt cx="5581440" cy="4140360"/>
            </a:xfrm>
          </p:grpSpPr>
          <p:sp>
            <p:nvSpPr>
              <p:cNvPr id="349" name=""/>
              <p:cNvSpPr/>
              <p:nvPr/>
            </p:nvSpPr>
            <p:spPr>
              <a:xfrm>
                <a:off x="1467000" y="2822400"/>
                <a:ext cx="2070000" cy="1800360"/>
              </a:xfrm>
              <a:custGeom>
                <a:avLst/>
                <a:gdLst/>
                <a:ahLst/>
                <a:rect l="l" t="t" r="r" b="b"/>
                <a:pathLst>
                  <a:path w="1304" h="1134">
                    <a:moveTo>
                      <a:pt x="0" y="0"/>
                    </a:moveTo>
                    <a:lnTo>
                      <a:pt x="227" y="1134"/>
                    </a:lnTo>
                    <a:lnTo>
                      <a:pt x="1304" y="1021"/>
                    </a:lnTo>
                    <a:lnTo>
                      <a:pt x="1134" y="39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09840" y="2103480"/>
                <a:ext cx="1889280" cy="1170000"/>
              </a:xfrm>
              <a:custGeom>
                <a:avLst/>
                <a:gdLst/>
                <a:ahLst/>
                <a:rect l="l" t="t" r="r" b="b"/>
                <a:pathLst>
                  <a:path w="1191" h="737">
                    <a:moveTo>
                      <a:pt x="0" y="311"/>
                    </a:moveTo>
                    <a:lnTo>
                      <a:pt x="227" y="0"/>
                    </a:lnTo>
                    <a:lnTo>
                      <a:pt x="1191" y="340"/>
                    </a:lnTo>
                    <a:lnTo>
                      <a:pt x="1134" y="737"/>
                    </a:lnTo>
                    <a:lnTo>
                      <a:pt x="0" y="311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41640" y="1112760"/>
                <a:ext cx="2386080" cy="1349280"/>
              </a:xfrm>
              <a:custGeom>
                <a:avLst/>
                <a:gdLst/>
                <a:ahLst/>
                <a:rect l="l" t="t" r="r" b="b"/>
                <a:pathLst>
                  <a:path w="1503" h="850">
                    <a:moveTo>
                      <a:pt x="0" y="28"/>
                    </a:moveTo>
                    <a:lnTo>
                      <a:pt x="397" y="510"/>
                    </a:lnTo>
                    <a:lnTo>
                      <a:pt x="1361" y="850"/>
                    </a:lnTo>
                    <a:lnTo>
                      <a:pt x="1503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6280" y="1878120"/>
                <a:ext cx="946080" cy="718920"/>
              </a:xfrm>
              <a:custGeom>
                <a:avLst/>
                <a:gdLst/>
                <a:ahLst/>
                <a:rect l="l" t="t" r="r" b="b"/>
                <a:pathLst>
                  <a:path w="596" h="453">
                    <a:moveTo>
                      <a:pt x="85" y="0"/>
                    </a:moveTo>
                    <a:lnTo>
                      <a:pt x="596" y="113"/>
                    </a:lnTo>
                    <a:lnTo>
                      <a:pt x="340" y="453"/>
                    </a:lnTo>
                    <a:lnTo>
                      <a:pt x="0" y="3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6280" y="2687760"/>
                <a:ext cx="855720" cy="1935000"/>
              </a:xfrm>
              <a:custGeom>
                <a:avLst/>
                <a:gdLst/>
                <a:ahLst/>
                <a:rect l="l" t="t" r="r" b="b"/>
                <a:pathLst>
                  <a:path w="539" h="1219">
                    <a:moveTo>
                      <a:pt x="0" y="0"/>
                    </a:moveTo>
                    <a:lnTo>
                      <a:pt x="312" y="28"/>
                    </a:lnTo>
                    <a:lnTo>
                      <a:pt x="539" y="1219"/>
                    </a:lnTo>
                    <a:lnTo>
                      <a:pt x="29" y="116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2360" y="4757760"/>
                <a:ext cx="1035000" cy="495360"/>
              </a:xfrm>
              <a:custGeom>
                <a:avLst/>
                <a:gdLst/>
                <a:ahLst/>
                <a:rect l="l" t="t" r="r" b="b"/>
                <a:pathLst>
                  <a:path w="652" h="312">
                    <a:moveTo>
                      <a:pt x="0" y="0"/>
                    </a:moveTo>
                    <a:lnTo>
                      <a:pt x="567" y="28"/>
                    </a:lnTo>
                    <a:lnTo>
                      <a:pt x="652" y="31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71640" y="4352760"/>
                <a:ext cx="4410360" cy="900360"/>
              </a:xfrm>
              <a:custGeom>
                <a:avLst/>
                <a:gdLst/>
                <a:ahLst/>
                <a:rect l="l" t="t" r="r" b="b"/>
                <a:pathLst>
                  <a:path w="2778" h="567">
                    <a:moveTo>
                      <a:pt x="113" y="567"/>
                    </a:moveTo>
                    <a:lnTo>
                      <a:pt x="0" y="283"/>
                    </a:lnTo>
                    <a:lnTo>
                      <a:pt x="2325" y="0"/>
                    </a:lnTo>
                    <a:lnTo>
                      <a:pt x="2778" y="28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2720" y="3543120"/>
                <a:ext cx="1800000" cy="900360"/>
              </a:xfrm>
              <a:custGeom>
                <a:avLst/>
                <a:gdLst/>
                <a:ahLst/>
                <a:rect l="l" t="t" r="r" b="b"/>
                <a:pathLst>
                  <a:path w="1134" h="567">
                    <a:moveTo>
                      <a:pt x="0" y="0"/>
                    </a:moveTo>
                    <a:lnTo>
                      <a:pt x="141" y="567"/>
                    </a:lnTo>
                    <a:lnTo>
                      <a:pt x="1134" y="42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81640" y="1112760"/>
                <a:ext cx="1981080" cy="1484280"/>
              </a:xfrm>
              <a:custGeom>
                <a:avLst/>
                <a:gdLst/>
                <a:ahLst/>
                <a:rect l="l" t="t" r="r" b="b"/>
                <a:pathLst>
                  <a:path w="1248" h="935">
                    <a:moveTo>
                      <a:pt x="142" y="0"/>
                    </a:moveTo>
                    <a:lnTo>
                      <a:pt x="0" y="879"/>
                    </a:lnTo>
                    <a:lnTo>
                      <a:pt x="284" y="935"/>
                    </a:lnTo>
                    <a:lnTo>
                      <a:pt x="1248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92720" y="2687760"/>
                <a:ext cx="2835000" cy="1439640"/>
              </a:xfrm>
              <a:custGeom>
                <a:avLst/>
                <a:gdLst/>
                <a:ahLst/>
                <a:rect l="l" t="t" r="r" b="b"/>
                <a:pathLst>
                  <a:path w="1786" h="907">
                    <a:moveTo>
                      <a:pt x="28" y="0"/>
                    </a:moveTo>
                    <a:lnTo>
                      <a:pt x="1786" y="567"/>
                    </a:lnTo>
                    <a:lnTo>
                      <a:pt x="1332" y="907"/>
                    </a:lnTo>
                    <a:lnTo>
                      <a:pt x="0" y="397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1280" y="1247760"/>
                <a:ext cx="720720" cy="584280"/>
              </a:xfrm>
              <a:custGeom>
                <a:avLst/>
                <a:gdLst/>
                <a:ahLst/>
                <a:rect l="l" t="t" r="r" b="b"/>
                <a:pathLst>
                  <a:path w="454" h="368">
                    <a:moveTo>
                      <a:pt x="142" y="0"/>
                    </a:moveTo>
                    <a:lnTo>
                      <a:pt x="454" y="368"/>
                    </a:lnTo>
                    <a:lnTo>
                      <a:pt x="0" y="2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1332000" y="2641680"/>
            <a:ext cx="90360" cy="90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97560" y="4175280"/>
            <a:ext cx="90360" cy="90360"/>
          </a:xfrm>
          <a:prstGeom prst="rect">
            <a:avLst/>
          </a:prstGeom>
          <a:solidFill>
            <a:srgbClr val="0033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230200" y="2820960"/>
            <a:ext cx="360360" cy="449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590560" y="4400640"/>
            <a:ext cx="360360" cy="449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30560" y="2820960"/>
            <a:ext cx="360360" cy="453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90920" y="4395960"/>
            <a:ext cx="360360" cy="453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000" y="4059360"/>
            <a:ext cx="7839000" cy="19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ankübergabe bei Leaving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M_ADV Paket „an“ Kreu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aves antworten nach Timerablauf proportional zu deren Ankunftszeit in der Kreu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austausch zwischen „erstem“ Slave und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41280" y="2619360"/>
            <a:ext cx="1440000" cy="98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41280" y="1112760"/>
            <a:ext cx="1440000" cy="110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32000" y="1089000"/>
            <a:ext cx="4275360" cy="1125720"/>
          </a:xfrm>
          <a:custGeom>
            <a:avLst/>
            <a:gdLst/>
            <a:ahLst/>
            <a:rect l="l" t="t" r="r" b="b"/>
            <a:pathLst>
              <a:path w="2693" h="709">
                <a:moveTo>
                  <a:pt x="0" y="0"/>
                </a:moveTo>
                <a:lnTo>
                  <a:pt x="0" y="709"/>
                </a:lnTo>
                <a:lnTo>
                  <a:pt x="1701" y="709"/>
                </a:lnTo>
                <a:lnTo>
                  <a:pt x="2693" y="2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32000" y="1898640"/>
            <a:ext cx="4410360" cy="1709640"/>
          </a:xfrm>
          <a:custGeom>
            <a:avLst/>
            <a:gdLst/>
            <a:ahLst/>
            <a:rect l="l" t="t" r="r" b="b"/>
            <a:pathLst>
              <a:path w="2778" h="1077">
                <a:moveTo>
                  <a:pt x="0" y="1077"/>
                </a:moveTo>
                <a:lnTo>
                  <a:pt x="0" y="454"/>
                </a:lnTo>
                <a:lnTo>
                  <a:pt x="1786" y="454"/>
                </a:lnTo>
                <a:lnTo>
                  <a:pt x="277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189864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226368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2710800" y="201744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2710800" y="2663640"/>
            <a:ext cx="22392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71640" y="2063880"/>
            <a:ext cx="1979640" cy="1860480"/>
          </a:xfrm>
          <a:prstGeom prst="ellipse">
            <a:avLst/>
          </a:prstGeom>
          <a:noFill/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479760" y="1203480"/>
            <a:ext cx="595440" cy="7696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317680" y="1436760"/>
            <a:ext cx="2075040" cy="1947960"/>
          </a:xfrm>
          <a:prstGeom prst="ellipse">
            <a:avLst/>
          </a:prstGeom>
          <a:noFill/>
          <a:ln w="158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0800" y="3024360"/>
            <a:ext cx="150840" cy="134640"/>
          </a:xfrm>
          <a:prstGeom prst="rect">
            <a:avLst/>
          </a:prstGeom>
          <a:solidFill>
            <a:srgbClr val="ff0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-0.08334 -4.81481E-006 E">
                                      <p:cBhvr>
                                        <p:cTn id="705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7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-5.55556E-007 0.0625 E">
                                      <p:cBhvr>
                                        <p:cTn id="71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7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03784 -0.11088 E">
                                      <p:cBhvr>
                                        <p:cTn id="75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77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rlin Neuköll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57360" y="1197000"/>
            <a:ext cx="4714920" cy="4822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372280" y="1197000"/>
            <a:ext cx="3430440" cy="2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wendet wurde ns-2 in Version 2.1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Fleetnet Verkehrsflussdaten kommen von Daimler-Chrysler. Sie wurden auf einer Nachbildung von Berlin Neukölln berech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reuzungsteilnehm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000" y="3429000"/>
            <a:ext cx="8217000" cy="25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 nach Kreuzungsradius verändert sich die Anzahl der Fahrzeuge, die Kreuzungsstatus 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zu großer Wert erhöht die Dislokation des Masters vom Kreuzungsmittelpun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zu geringer Wert könnte bedeuten, dass Kreuzungen über gewisse Zeiträume unbesetzt sind und somit keinerlei Routinginformationen gesammelt werden, bzw. gerade gesammelte wieder verloren g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Aufenthaltsdauer der Fahrzeuge und somit die Notwendigkeit Datenbankpakete zu übertragen, hängt ebenfalls vom Radius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1640" y="593640"/>
            <a:ext cx="2114640" cy="1395360"/>
          </a:xfrm>
          <a:custGeom>
            <a:avLst/>
            <a:gdLst/>
            <a:ahLst/>
            <a:rect l="l" t="t" r="r" b="b"/>
            <a:pathLst>
              <a:path w="1332" h="879">
                <a:moveTo>
                  <a:pt x="0" y="879"/>
                </a:moveTo>
                <a:lnTo>
                  <a:pt x="454" y="879"/>
                </a:lnTo>
                <a:lnTo>
                  <a:pt x="1332" y="454"/>
                </a:lnTo>
                <a:lnTo>
                  <a:pt x="133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593640"/>
            <a:ext cx="3959280" cy="674640"/>
          </a:xfrm>
          <a:custGeom>
            <a:avLst/>
            <a:gdLst/>
            <a:ahLst/>
            <a:rect l="l" t="t" r="r" b="b"/>
            <a:pathLst>
              <a:path w="2494" h="425">
                <a:moveTo>
                  <a:pt x="0" y="0"/>
                </a:moveTo>
                <a:lnTo>
                  <a:pt x="0" y="425"/>
                </a:lnTo>
                <a:lnTo>
                  <a:pt x="2494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71640" y="1763640"/>
            <a:ext cx="2114640" cy="1575000"/>
          </a:xfrm>
          <a:custGeom>
            <a:avLst/>
            <a:gdLst/>
            <a:ahLst/>
            <a:rect l="l" t="t" r="r" b="b"/>
            <a:pathLst>
              <a:path w="1332" h="992">
                <a:moveTo>
                  <a:pt x="0" y="425"/>
                </a:moveTo>
                <a:lnTo>
                  <a:pt x="454" y="425"/>
                </a:lnTo>
                <a:lnTo>
                  <a:pt x="1332" y="0"/>
                </a:lnTo>
                <a:lnTo>
                  <a:pt x="1332" y="992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2360" y="1719360"/>
            <a:ext cx="3105360" cy="1709640"/>
          </a:xfrm>
          <a:custGeom>
            <a:avLst/>
            <a:gdLst/>
            <a:ahLst/>
            <a:rect l="l" t="t" r="r" b="b"/>
            <a:pathLst>
              <a:path w="1956" h="1077">
                <a:moveTo>
                  <a:pt x="0" y="1020"/>
                </a:moveTo>
                <a:lnTo>
                  <a:pt x="0" y="0"/>
                </a:lnTo>
                <a:lnTo>
                  <a:pt x="793" y="0"/>
                </a:lnTo>
                <a:lnTo>
                  <a:pt x="1956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7000" y="1719360"/>
            <a:ext cx="2114640" cy="1709640"/>
          </a:xfrm>
          <a:custGeom>
            <a:avLst/>
            <a:gdLst/>
            <a:ahLst/>
            <a:rect l="l" t="t" r="r" b="b"/>
            <a:pathLst>
              <a:path w="1332" h="1077">
                <a:moveTo>
                  <a:pt x="1332" y="0"/>
                </a:moveTo>
                <a:lnTo>
                  <a:pt x="0" y="0"/>
                </a:lnTo>
                <a:lnTo>
                  <a:pt x="1162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3700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1530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3268080" y="1044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3133440" y="1809720"/>
            <a:ext cx="22356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3567600">
            <a:off x="5173200" y="180000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05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437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0236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9772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0040" y="133344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6880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207972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67000" y="2214720"/>
            <a:ext cx="22356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20097600">
            <a:off x="2246400" y="19332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2520000">
            <a:off x="5627160" y="221472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520000">
            <a:off x="5963760" y="27540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520000">
            <a:off x="6366960" y="28206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3088800" y="21240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3268080" y="28652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3065400" y="63828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8915400">
            <a:off x="2820600" y="1461600"/>
            <a:ext cx="22392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0800000">
            <a:off x="4657680" y="1335240"/>
            <a:ext cx="223920" cy="134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28800" y="1022400"/>
            <a:ext cx="1079640" cy="96660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65520" y="106200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6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8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8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9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8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0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-0.1033 0.06574 E">
                                      <p:cBhvr>
                                        <p:cTn id="81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500"/>
                            </p:stCondLst>
                            <p:childTnLst>
                              <p:par>
                                <p:cTn id="8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8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2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3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3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3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5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5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5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6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80920" y="863640"/>
            <a:ext cx="7245360" cy="50720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411280" y="4959360"/>
            <a:ext cx="4510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305080" y="939240"/>
            <a:ext cx="4530240" cy="4156920"/>
            <a:chOff x="2305080" y="939240"/>
            <a:chExt cx="4530240" cy="4156920"/>
          </a:xfrm>
        </p:grpSpPr>
        <p:sp>
          <p:nvSpPr>
            <p:cNvPr id="420" name=""/>
            <p:cNvSpPr/>
            <p:nvPr/>
          </p:nvSpPr>
          <p:spPr>
            <a:xfrm>
              <a:off x="6305400" y="4102200"/>
              <a:ext cx="316080" cy="26964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05080" y="2484360"/>
              <a:ext cx="315720" cy="27000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448600">
              <a:off x="2631600" y="2015640"/>
              <a:ext cx="4040280" cy="2003400"/>
            </a:xfrm>
            <a:custGeom>
              <a:avLst/>
              <a:gdLst/>
              <a:ahLst/>
              <a:rect l="l" t="t" r="r" b="b"/>
              <a:pathLst>
                <a:path w="2665" h="571">
                  <a:moveTo>
                    <a:pt x="0" y="571"/>
                  </a:moveTo>
                  <a:cubicBezTo>
                    <a:pt x="217" y="346"/>
                    <a:pt x="435" y="122"/>
                    <a:pt x="879" y="61"/>
                  </a:cubicBezTo>
                  <a:cubicBezTo>
                    <a:pt x="1323" y="0"/>
                    <a:pt x="2367" y="184"/>
                    <a:pt x="2665" y="203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32000" y="1463760"/>
            <a:ext cx="6391080" cy="4473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827360" y="1598760"/>
            <a:ext cx="5672160" cy="40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1640" y="1719360"/>
            <a:ext cx="944640" cy="395928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62360" y="1644480"/>
            <a:ext cx="944640" cy="403416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1640" y="1689120"/>
            <a:ext cx="944640" cy="398952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16280" y="3646440"/>
            <a:ext cx="944640" cy="200808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27360" y="3392640"/>
            <a:ext cx="944280" cy="228600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07000" y="3286080"/>
            <a:ext cx="944640" cy="239256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02360" y="1719360"/>
            <a:ext cx="360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02360" y="18543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663800" y="1932120"/>
            <a:ext cx="9428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176688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27360" y="4619520"/>
            <a:ext cx="9442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16280" y="482904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607000" y="457992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180648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8200" y="5105520"/>
            <a:ext cx="166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70360" y="510552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70440" y="513720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hal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196640"/>
            <a:ext cx="78472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ans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ention Based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RP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noten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euzungs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ulatio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 &amp; Ausb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8360" y="5184720"/>
            <a:ext cx="412560" cy="314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80920" y="5364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6280" y="4554360"/>
            <a:ext cx="262080" cy="270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880920" y="831960"/>
            <a:ext cx="7426440" cy="519912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367000" y="3962520"/>
            <a:ext cx="4860720" cy="1222200"/>
            <a:chOff x="2367000" y="3962520"/>
            <a:chExt cx="4860720" cy="1222200"/>
          </a:xfrm>
        </p:grpSpPr>
        <p:sp>
          <p:nvSpPr>
            <p:cNvPr id="449" name=""/>
            <p:cNvSpPr/>
            <p:nvPr/>
          </p:nvSpPr>
          <p:spPr>
            <a:xfrm>
              <a:off x="2411280" y="4959360"/>
              <a:ext cx="451080" cy="225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12000" y="4197240"/>
              <a:ext cx="315720" cy="27000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67000" y="4869000"/>
              <a:ext cx="315720" cy="26964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37000" y="3962520"/>
              <a:ext cx="4230360" cy="906480"/>
            </a:xfrm>
            <a:custGeom>
              <a:avLst/>
              <a:gdLst/>
              <a:ahLst/>
              <a:rect l="l" t="t" r="r" b="b"/>
              <a:pathLst>
                <a:path w="2665" h="571">
                  <a:moveTo>
                    <a:pt x="0" y="571"/>
                  </a:moveTo>
                  <a:cubicBezTo>
                    <a:pt x="217" y="346"/>
                    <a:pt x="435" y="122"/>
                    <a:pt x="879" y="61"/>
                  </a:cubicBezTo>
                  <a:cubicBezTo>
                    <a:pt x="1323" y="0"/>
                    <a:pt x="2367" y="184"/>
                    <a:pt x="2665" y="203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901600" y="1994760"/>
            <a:ext cx="67320" cy="58320"/>
            <a:chOff x="2901600" y="1994760"/>
            <a:chExt cx="67320" cy="58320"/>
          </a:xfrm>
        </p:grpSpPr>
        <p:sp>
          <p:nvSpPr>
            <p:cNvPr id="454" name=""/>
            <p:cNvSpPr/>
            <p:nvPr/>
          </p:nvSpPr>
          <p:spPr>
            <a:xfrm flipV="1">
              <a:off x="2906280" y="1994760"/>
              <a:ext cx="58320" cy="5832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01600" y="1998360"/>
              <a:ext cx="67320" cy="4716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6709680" y="4527000"/>
            <a:ext cx="58320" cy="5832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05360" y="4530240"/>
            <a:ext cx="67320" cy="4716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332000" y="1336680"/>
            <a:ext cx="6526080" cy="45687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859040" y="1582560"/>
            <a:ext cx="957240" cy="4051440"/>
          </a:xfrm>
          <a:custGeom>
            <a:avLst/>
            <a:gdLst/>
            <a:ahLst/>
            <a:rect l="l" t="t" r="r" b="b"/>
            <a:pathLst>
              <a:path w="623" h="2551">
                <a:moveTo>
                  <a:pt x="0" y="2551"/>
                </a:moveTo>
                <a:lnTo>
                  <a:pt x="0" y="0"/>
                </a:lnTo>
                <a:lnTo>
                  <a:pt x="623" y="0"/>
                </a:lnTo>
                <a:lnTo>
                  <a:pt x="623" y="2551"/>
                </a:ln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2880" y="1735200"/>
            <a:ext cx="968400" cy="3898800"/>
          </a:xfrm>
          <a:custGeom>
            <a:avLst/>
            <a:gdLst/>
            <a:ahLst/>
            <a:rect l="l" t="t" r="r" b="b"/>
            <a:pathLst>
              <a:path w="623" h="2551">
                <a:moveTo>
                  <a:pt x="0" y="2551"/>
                </a:moveTo>
                <a:lnTo>
                  <a:pt x="0" y="0"/>
                </a:lnTo>
                <a:lnTo>
                  <a:pt x="623" y="0"/>
                </a:lnTo>
                <a:lnTo>
                  <a:pt x="623" y="2551"/>
                </a:ln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40600" y="1612800"/>
            <a:ext cx="363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816280" y="3444840"/>
            <a:ext cx="966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51280" y="3068640"/>
            <a:ext cx="9669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16280" y="427680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59040" y="177336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78272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43360" y="4030560"/>
            <a:ext cx="9669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140600" y="1735200"/>
            <a:ext cx="363600" cy="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5240" y="510552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90880" y="508464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17960" y="508464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97520" y="1892160"/>
            <a:ext cx="26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17f46"/>
                </a:solidFill>
                <a:latin typeface="Arial"/>
              </a:rPr>
              <a:t>250m F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97360" y="2214720"/>
            <a:ext cx="989280" cy="3419280"/>
          </a:xfrm>
          <a:custGeom>
            <a:avLst/>
            <a:gdLst/>
            <a:ahLst/>
            <a:rect l="l" t="t" r="r" b="b"/>
            <a:pathLst>
              <a:path w="595" h="2154">
                <a:moveTo>
                  <a:pt x="0" y="2154"/>
                </a:moveTo>
                <a:lnTo>
                  <a:pt x="0" y="0"/>
                </a:lnTo>
                <a:lnTo>
                  <a:pt x="595" y="0"/>
                </a:lnTo>
                <a:lnTo>
                  <a:pt x="595" y="2154"/>
                </a:lnTo>
              </a:path>
            </a:pathLst>
          </a:custGeom>
          <a:solidFill>
            <a:srgbClr val="339933">
              <a:alpha val="60000"/>
            </a:srgbClr>
          </a:solidFill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86640" y="3249720"/>
            <a:ext cx="931680" cy="2384280"/>
          </a:xfrm>
          <a:custGeom>
            <a:avLst/>
            <a:gdLst/>
            <a:ahLst/>
            <a:rect l="l" t="t" r="r" b="b"/>
            <a:pathLst>
              <a:path w="595" h="2154">
                <a:moveTo>
                  <a:pt x="0" y="2154"/>
                </a:moveTo>
                <a:lnTo>
                  <a:pt x="0" y="0"/>
                </a:lnTo>
                <a:lnTo>
                  <a:pt x="595" y="0"/>
                </a:lnTo>
                <a:lnTo>
                  <a:pt x="595" y="2154"/>
                </a:lnTo>
              </a:path>
            </a:pathLst>
          </a:custGeom>
          <a:solidFill>
            <a:srgbClr val="339933">
              <a:alpha val="60000"/>
            </a:srgbClr>
          </a:solidFill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86640" y="419400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19680" y="3743280"/>
            <a:ext cx="9669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46200" y="1898640"/>
            <a:ext cx="7605720" cy="15447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197000" y="1898640"/>
            <a:ext cx="5896080" cy="41274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932280" y="3430440"/>
            <a:ext cx="404640" cy="314640"/>
          </a:xfrm>
          <a:prstGeom prst="ellipse">
            <a:avLst/>
          </a:prstGeom>
          <a:noFill/>
          <a:ln w="64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608280" y="3301920"/>
            <a:ext cx="1238400" cy="695160"/>
            <a:chOff x="3608280" y="3301920"/>
            <a:chExt cx="1238400" cy="695160"/>
          </a:xfrm>
        </p:grpSpPr>
        <p:sp>
          <p:nvSpPr>
            <p:cNvPr id="482" name=""/>
            <p:cNvSpPr/>
            <p:nvPr/>
          </p:nvSpPr>
          <p:spPr>
            <a:xfrm>
              <a:off x="4044960" y="3386160"/>
              <a:ext cx="40464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98760" y="361152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65400" y="364320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63720" y="330192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08280" y="338904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63720" y="367020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41680" y="368280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54240" y="3377880"/>
              <a:ext cx="405000" cy="31464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265400" y="368280"/>
            <a:ext cx="540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Know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42298E-006 L 1.66667E-006 -0.2504 E">
                                      <p:cBhvr>
                                        <p:cTn id="901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sblic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11280" y="831960"/>
            <a:ext cx="7381800" cy="5167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732720" y="3654360"/>
            <a:ext cx="900000" cy="988920"/>
          </a:xfrm>
          <a:custGeom>
            <a:avLst/>
            <a:gdLst/>
            <a:ahLst/>
            <a:rect l="l" t="t" r="r" b="b"/>
            <a:pathLst>
              <a:path w="567" h="623">
                <a:moveTo>
                  <a:pt x="397" y="623"/>
                </a:moveTo>
                <a:lnTo>
                  <a:pt x="0" y="368"/>
                </a:lnTo>
                <a:lnTo>
                  <a:pt x="425" y="0"/>
                </a:lnTo>
                <a:lnTo>
                  <a:pt x="567" y="85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46280" y="1089000"/>
            <a:ext cx="5986440" cy="4140360"/>
            <a:chOff x="1646280" y="1089000"/>
            <a:chExt cx="5986440" cy="4140360"/>
          </a:xfrm>
        </p:grpSpPr>
        <p:sp>
          <p:nvSpPr>
            <p:cNvPr id="495" name=""/>
            <p:cNvSpPr/>
            <p:nvPr/>
          </p:nvSpPr>
          <p:spPr>
            <a:xfrm>
              <a:off x="5111640" y="1268280"/>
              <a:ext cx="2521080" cy="2295720"/>
            </a:xfrm>
            <a:custGeom>
              <a:avLst/>
              <a:gdLst/>
              <a:ahLst/>
              <a:rect l="l" t="t" r="r" b="b"/>
              <a:pathLst>
                <a:path w="1588" h="1446">
                  <a:moveTo>
                    <a:pt x="1049" y="0"/>
                  </a:moveTo>
                  <a:lnTo>
                    <a:pt x="0" y="851"/>
                  </a:lnTo>
                  <a:lnTo>
                    <a:pt x="1588" y="14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646280" y="1089000"/>
              <a:ext cx="5581440" cy="4140360"/>
              <a:chOff x="1646280" y="1089000"/>
              <a:chExt cx="5581440" cy="4140360"/>
            </a:xfrm>
          </p:grpSpPr>
          <p:sp>
            <p:nvSpPr>
              <p:cNvPr id="497" name=""/>
              <p:cNvSpPr/>
              <p:nvPr/>
            </p:nvSpPr>
            <p:spPr>
              <a:xfrm>
                <a:off x="2367000" y="2798640"/>
                <a:ext cx="2070000" cy="1800360"/>
              </a:xfrm>
              <a:custGeom>
                <a:avLst/>
                <a:gdLst/>
                <a:ahLst/>
                <a:rect l="l" t="t" r="r" b="b"/>
                <a:pathLst>
                  <a:path w="1304" h="1134">
                    <a:moveTo>
                      <a:pt x="0" y="0"/>
                    </a:moveTo>
                    <a:lnTo>
                      <a:pt x="227" y="1134"/>
                    </a:lnTo>
                    <a:lnTo>
                      <a:pt x="1304" y="1021"/>
                    </a:lnTo>
                    <a:lnTo>
                      <a:pt x="1134" y="39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09840" y="2079720"/>
                <a:ext cx="1889280" cy="1170000"/>
              </a:xfrm>
              <a:custGeom>
                <a:avLst/>
                <a:gdLst/>
                <a:ahLst/>
                <a:rect l="l" t="t" r="r" b="b"/>
                <a:pathLst>
                  <a:path w="1191" h="737">
                    <a:moveTo>
                      <a:pt x="0" y="311"/>
                    </a:moveTo>
                    <a:lnTo>
                      <a:pt x="227" y="0"/>
                    </a:lnTo>
                    <a:lnTo>
                      <a:pt x="1191" y="340"/>
                    </a:lnTo>
                    <a:lnTo>
                      <a:pt x="1134" y="737"/>
                    </a:lnTo>
                    <a:lnTo>
                      <a:pt x="0" y="311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41640" y="1089000"/>
                <a:ext cx="2386080" cy="1349280"/>
              </a:xfrm>
              <a:custGeom>
                <a:avLst/>
                <a:gdLst/>
                <a:ahLst/>
                <a:rect l="l" t="t" r="r" b="b"/>
                <a:pathLst>
                  <a:path w="1503" h="850">
                    <a:moveTo>
                      <a:pt x="0" y="28"/>
                    </a:moveTo>
                    <a:lnTo>
                      <a:pt x="397" y="510"/>
                    </a:lnTo>
                    <a:lnTo>
                      <a:pt x="1361" y="850"/>
                    </a:lnTo>
                    <a:lnTo>
                      <a:pt x="1503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46280" y="1854360"/>
                <a:ext cx="946080" cy="718920"/>
              </a:xfrm>
              <a:custGeom>
                <a:avLst/>
                <a:gdLst/>
                <a:ahLst/>
                <a:rect l="l" t="t" r="r" b="b"/>
                <a:pathLst>
                  <a:path w="596" h="453">
                    <a:moveTo>
                      <a:pt x="85" y="0"/>
                    </a:moveTo>
                    <a:lnTo>
                      <a:pt x="596" y="113"/>
                    </a:lnTo>
                    <a:lnTo>
                      <a:pt x="340" y="453"/>
                    </a:lnTo>
                    <a:lnTo>
                      <a:pt x="0" y="3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46280" y="2664000"/>
                <a:ext cx="855720" cy="1935000"/>
              </a:xfrm>
              <a:custGeom>
                <a:avLst/>
                <a:gdLst/>
                <a:ahLst/>
                <a:rect l="l" t="t" r="r" b="b"/>
                <a:pathLst>
                  <a:path w="539" h="1219">
                    <a:moveTo>
                      <a:pt x="0" y="0"/>
                    </a:moveTo>
                    <a:lnTo>
                      <a:pt x="312" y="28"/>
                    </a:lnTo>
                    <a:lnTo>
                      <a:pt x="539" y="1219"/>
                    </a:lnTo>
                    <a:lnTo>
                      <a:pt x="29" y="116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92360" y="4734000"/>
                <a:ext cx="1035000" cy="495360"/>
              </a:xfrm>
              <a:custGeom>
                <a:avLst/>
                <a:gdLst/>
                <a:ahLst/>
                <a:rect l="l" t="t" r="r" b="b"/>
                <a:pathLst>
                  <a:path w="652" h="312">
                    <a:moveTo>
                      <a:pt x="0" y="0"/>
                    </a:moveTo>
                    <a:lnTo>
                      <a:pt x="567" y="28"/>
                    </a:lnTo>
                    <a:lnTo>
                      <a:pt x="652" y="31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71640" y="4329000"/>
                <a:ext cx="4410360" cy="900360"/>
              </a:xfrm>
              <a:custGeom>
                <a:avLst/>
                <a:gdLst/>
                <a:ahLst/>
                <a:rect l="l" t="t" r="r" b="b"/>
                <a:pathLst>
                  <a:path w="2778" h="567">
                    <a:moveTo>
                      <a:pt x="113" y="567"/>
                    </a:moveTo>
                    <a:lnTo>
                      <a:pt x="0" y="283"/>
                    </a:lnTo>
                    <a:lnTo>
                      <a:pt x="2325" y="0"/>
                    </a:lnTo>
                    <a:lnTo>
                      <a:pt x="2778" y="28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392720" y="3519360"/>
                <a:ext cx="1800000" cy="900360"/>
              </a:xfrm>
              <a:custGeom>
                <a:avLst/>
                <a:gdLst/>
                <a:ahLst/>
                <a:rect l="l" t="t" r="r" b="b"/>
                <a:pathLst>
                  <a:path w="1134" h="567">
                    <a:moveTo>
                      <a:pt x="0" y="0"/>
                    </a:moveTo>
                    <a:lnTo>
                      <a:pt x="141" y="567"/>
                    </a:lnTo>
                    <a:lnTo>
                      <a:pt x="1134" y="42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81640" y="1089000"/>
                <a:ext cx="1981080" cy="1484280"/>
              </a:xfrm>
              <a:custGeom>
                <a:avLst/>
                <a:gdLst/>
                <a:ahLst/>
                <a:rect l="l" t="t" r="r" b="b"/>
                <a:pathLst>
                  <a:path w="1248" h="935">
                    <a:moveTo>
                      <a:pt x="142" y="0"/>
                    </a:moveTo>
                    <a:lnTo>
                      <a:pt x="0" y="879"/>
                    </a:lnTo>
                    <a:lnTo>
                      <a:pt x="284" y="935"/>
                    </a:lnTo>
                    <a:lnTo>
                      <a:pt x="1248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92720" y="2664000"/>
                <a:ext cx="2835000" cy="1439640"/>
              </a:xfrm>
              <a:custGeom>
                <a:avLst/>
                <a:gdLst/>
                <a:ahLst/>
                <a:rect l="l" t="t" r="r" b="b"/>
                <a:pathLst>
                  <a:path w="1786" h="907">
                    <a:moveTo>
                      <a:pt x="28" y="0"/>
                    </a:moveTo>
                    <a:lnTo>
                      <a:pt x="1786" y="567"/>
                    </a:lnTo>
                    <a:lnTo>
                      <a:pt x="1332" y="907"/>
                    </a:lnTo>
                    <a:lnTo>
                      <a:pt x="0" y="397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81280" y="1224000"/>
                <a:ext cx="720720" cy="584280"/>
              </a:xfrm>
              <a:custGeom>
                <a:avLst/>
                <a:gdLst/>
                <a:ahLst/>
                <a:rect l="l" t="t" r="r" b="b"/>
                <a:pathLst>
                  <a:path w="454" h="368">
                    <a:moveTo>
                      <a:pt x="142" y="0"/>
                    </a:moveTo>
                    <a:lnTo>
                      <a:pt x="454" y="368"/>
                    </a:lnTo>
                    <a:lnTo>
                      <a:pt x="0" y="2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2478240" y="452124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46640" y="428472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21280" y="322092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15000" y="25066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5800" y="34066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00720" y="4046400"/>
            <a:ext cx="360360" cy="31464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95800" y="2384280"/>
            <a:ext cx="360360" cy="31464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02000" y="18082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93760" y="25066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3600" y="46036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57360" y="46432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58960" y="472284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392720" y="448164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37976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392720" y="432900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46640" y="33670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95800" y="324972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64120" y="34066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94320" y="424512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98600" y="265896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68960" y="2506680"/>
            <a:ext cx="13464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76640" y="266400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227720" y="347976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51640" y="1298520"/>
            <a:ext cx="3376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eichberechtigte Kreuzungsteilnehmer, die z.B. nach Aufenthaltsdauer entscheiden, wer weiterleit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abschiedu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len Dank für Ihr Inte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The delayed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836640" y="-323280"/>
            <a:ext cx="7605720" cy="4493880"/>
            <a:chOff x="836640" y="-323280"/>
            <a:chExt cx="7605720" cy="4493880"/>
          </a:xfrm>
        </p:grpSpPr>
        <p:sp>
          <p:nvSpPr>
            <p:cNvPr id="536" name=""/>
            <p:cNvSpPr/>
            <p:nvPr/>
          </p:nvSpPr>
          <p:spPr>
            <a:xfrm>
              <a:off x="4039920" y="1707840"/>
              <a:ext cx="144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079640" indent="-216000" algn="ctr">
                <a:tabLst>
                  <a:tab algn="l" pos="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836640" y="1707840"/>
              <a:ext cx="7605720" cy="2028240"/>
              <a:chOff x="836640" y="1707840"/>
              <a:chExt cx="7605720" cy="2028240"/>
            </a:xfrm>
          </p:grpSpPr>
          <p:sp>
            <p:nvSpPr>
              <p:cNvPr id="538" name=""/>
              <p:cNvSpPr/>
              <p:nvPr/>
            </p:nvSpPr>
            <p:spPr>
              <a:xfrm>
                <a:off x="836640" y="1707840"/>
                <a:ext cx="760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36640" y="2297880"/>
                <a:ext cx="166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51640" y="2297880"/>
                <a:ext cx="18432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22720" y="2294640"/>
                <a:ext cx="166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02000" y="229464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222720" y="229788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88080" y="229788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00960" y="229464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51640" y="229788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6640" y="2021760"/>
                <a:ext cx="76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971640" y="184248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1280" y="1856520"/>
                <a:ext cx="1350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622520" y="1856520"/>
                <a:ext cx="1350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41640" y="1856520"/>
                <a:ext cx="1350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98800" y="185652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81640" y="1856520"/>
                <a:ext cx="223920" cy="0"/>
              </a:xfrm>
              <a:prstGeom prst="line">
                <a:avLst/>
              </a:prstGeom>
              <a:ln w="1144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151280" y="2156760"/>
                <a:ext cx="22356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60920" y="2297880"/>
                <a:ext cx="0" cy="14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88080" y="185652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91280" y="2301120"/>
                <a:ext cx="0" cy="14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856640" y="2294640"/>
                <a:ext cx="0" cy="14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172720" y="229464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167360" y="216288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468960" y="215820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965920" y="215676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77400" y="2160000"/>
                <a:ext cx="22356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12000" y="216288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7720" y="232020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29800" y="296784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516640" y="272340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086280" y="3372840"/>
                <a:ext cx="0" cy="22320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677360" y="254412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73720" y="249948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10800" y="2101320"/>
                <a:ext cx="65520" cy="21348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3056040" y="2188800"/>
                <a:ext cx="105120" cy="19764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650120" y="1533240"/>
              <a:ext cx="1282680" cy="1126800"/>
            </a:xfrm>
            <a:prstGeom prst="ellipse">
              <a:avLst/>
            </a:prstGeom>
            <a:noFill/>
            <a:ln w="3240">
              <a:solidFill>
                <a:srgbClr val="66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3747000">
              <a:off x="2120760" y="276120"/>
              <a:ext cx="3349800" cy="329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57" y="72"/>
                  </a:moveTo>
                  <a:arcTo wR="10800" hR="10800" stAng="-5796403" swAng="5005469"/>
                  <a:lnTo>
                    <a:pt x="10800" y="10800"/>
                  </a:lnTo>
                  <a:close/>
                </a:path>
                <a:path fill="none" w="21600" h="21600">
                  <a:moveTo>
                    <a:pt x="9557" y="72"/>
                  </a:moveTo>
                  <a:arcTo wR="10800" hR="10800" stAng="-5796403" swAng="5005469"/>
                </a:path>
              </a:pathLst>
            </a:custGeom>
            <a:noFill/>
            <a:ln w="12600">
              <a:solidFill>
                <a:srgbClr val="8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52840" y="2112480"/>
              <a:ext cx="1415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079640" indent="-216000" algn="ctr">
                <a:tabLst>
                  <a:tab algn="l" pos="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3968640"/>
            <a:ext cx="821700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lave befindet sich in genauer Funkreichw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durch würde dieser ohne Verzögerung senden und einen möglichen Master stö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zögern des Slaves um Kreuzungs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Delayed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922480" cy="52563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402000" y="1112760"/>
            <a:ext cx="49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20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  = T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– p)</a:t>
            </a:r>
            <a:br>
              <a:rPr sz="32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max.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ortschritt → Ziel,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[0,1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08440" y="3645000"/>
            <a:ext cx="5594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p = (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Quelle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Nächster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Entfernung(A→B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unkreichw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533760"/>
            <a:ext cx="8217000" cy="24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ige positionsbasierte Routingalgorithmen sind nicht für City-Szenarien entwor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n-Greedy Situationen stellen ein Problem 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+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dtbereiche besitzen eng vermaschte Straßennetz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640" y="1704960"/>
            <a:ext cx="285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01640" y="2292480"/>
            <a:ext cx="7938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27120" y="2284200"/>
            <a:ext cx="1035360" cy="103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2298600"/>
            <a:ext cx="1326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479600" y="2298600"/>
            <a:ext cx="792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06640" y="2292480"/>
            <a:ext cx="1440" cy="10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40280" y="2001960"/>
            <a:ext cx="324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640" y="2019240"/>
            <a:ext cx="2631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6640" y="1839960"/>
            <a:ext cx="22392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87520" y="1854360"/>
            <a:ext cx="13500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06640" y="1854360"/>
            <a:ext cx="13500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63800" y="1854360"/>
            <a:ext cx="22392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2160720"/>
            <a:ext cx="223920" cy="0"/>
          </a:xfrm>
          <a:prstGeom prst="line">
            <a:avLst/>
          </a:prstGeom>
          <a:ln w="1144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15920" y="2154240"/>
            <a:ext cx="22392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36640" y="2295360"/>
            <a:ext cx="0" cy="1074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54440" y="2474280"/>
            <a:ext cx="158400" cy="15840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154600"/>
            <a:ext cx="201600" cy="97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34520" y="1752480"/>
            <a:ext cx="193680" cy="11196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3320" y="296532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6680" y="249696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71640" y="2149560"/>
            <a:ext cx="105120" cy="19800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42440" y="2280960"/>
            <a:ext cx="1052640" cy="101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039560" y="1272600"/>
            <a:ext cx="1267920" cy="73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44200" y="978840"/>
            <a:ext cx="1267560" cy="73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30040" y="1320480"/>
            <a:ext cx="193680" cy="11196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77080" y="2941200"/>
            <a:ext cx="158040" cy="15804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42320" y="2306520"/>
            <a:ext cx="223920" cy="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62040" y="2256120"/>
            <a:ext cx="389520" cy="27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5920" y="2060640"/>
            <a:ext cx="9720" cy="22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39200">
            <a:off x="1454040" y="279720"/>
            <a:ext cx="3238200" cy="45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73" y="970"/>
                </a:moveTo>
                <a:arcTo wR="10800" hR="10800" stAng="-3931816" swAng="3931816"/>
                <a:lnTo>
                  <a:pt x="10800" y="10800"/>
                </a:lnTo>
                <a:close/>
              </a:path>
              <a:path fill="none" w="21600" h="21600">
                <a:moveTo>
                  <a:pt x="15273" y="970"/>
                </a:moveTo>
                <a:arcTo wR="10800" hR="10800" stAng="-3931816" swAng="3931816"/>
              </a:path>
            </a:pathLst>
          </a:custGeom>
          <a:noFill/>
          <a:ln w="1260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7200" y="2514600"/>
            <a:ext cx="1042920" cy="988920"/>
          </a:xfrm>
          <a:prstGeom prst="ellipse">
            <a:avLst/>
          </a:prstGeom>
          <a:noFill/>
          <a:ln w="1260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5920" y="1749600"/>
            <a:ext cx="804960" cy="765000"/>
          </a:xfrm>
          <a:custGeom>
            <a:avLst/>
            <a:gdLst/>
            <a:ahLst/>
            <a:rect l="l" t="t" r="r" b="b"/>
            <a:pathLst>
              <a:path w="510" h="453">
                <a:moveTo>
                  <a:pt x="0" y="198"/>
                </a:moveTo>
                <a:lnTo>
                  <a:pt x="312" y="0"/>
                </a:lnTo>
                <a:lnTo>
                  <a:pt x="510" y="283"/>
                </a:lnTo>
                <a:lnTo>
                  <a:pt x="255" y="4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37000" y="1461960"/>
            <a:ext cx="5310000" cy="831960"/>
          </a:xfrm>
          <a:custGeom>
            <a:avLst/>
            <a:gdLst/>
            <a:ahLst/>
            <a:rect l="l" t="t" r="r" b="b"/>
            <a:pathLst>
              <a:path w="3345" h="524">
                <a:moveTo>
                  <a:pt x="0" y="439"/>
                </a:moveTo>
                <a:cubicBezTo>
                  <a:pt x="529" y="219"/>
                  <a:pt x="1059" y="0"/>
                  <a:pt x="1616" y="14"/>
                </a:cubicBezTo>
                <a:cubicBezTo>
                  <a:pt x="2173" y="28"/>
                  <a:pt x="3057" y="439"/>
                  <a:pt x="3345" y="524"/>
                </a:cubicBezTo>
              </a:path>
            </a:pathLst>
          </a:custGeom>
          <a:noFill/>
          <a:ln w="12600">
            <a:solidFill>
              <a:srgbClr val="00008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52880" y="774720"/>
            <a:ext cx="0" cy="290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3320" y="22971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5440" y="2292480"/>
            <a:ext cx="0" cy="13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1880" y="260820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97200" y="313200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strak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Straß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physikalische Verbindung, wenn genug Teilnehmer die Straße befahren, dass eine Weiterleitung zur nächsten Kreuzung erfolgreich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Kreuz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Knotenpunke zwischen den Straßenabschnitten bekommen eine besondere Bedeutung, da sie Wissen über die Link States sammeln und verbr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043600" y="1633680"/>
            <a:ext cx="19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250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rlin Neuköll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7360" y="1197000"/>
            <a:ext cx="4714920" cy="48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00680" y="3608280"/>
            <a:ext cx="22356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70320" y="3114720"/>
            <a:ext cx="22392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05320" y="3114720"/>
            <a:ext cx="22392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84440" y="3241800"/>
            <a:ext cx="609840" cy="44748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101840" y="3209760"/>
            <a:ext cx="401400" cy="48744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606640" y="1384560"/>
            <a:ext cx="494280" cy="36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1280" y="1224000"/>
            <a:ext cx="197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250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e0"/>
                </a:solidFill>
                <a:latin typeface="Arial"/>
              </a:rPr>
              <a:t>C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45240" y="1673280"/>
            <a:ext cx="22392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192480"/>
            <a:ext cx="109440" cy="982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48160" y="3178080"/>
            <a:ext cx="109440" cy="986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46400" y="3608280"/>
            <a:ext cx="109800" cy="986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99040" y="1938240"/>
            <a:ext cx="38037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raßenzüge repräsentieren Links, die „up“ oder „down“ sein können, je nachdem, ob genug Fahrzeuge diese gerade befahren, i.e. ein Linkstate Paket das andere Ende erre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72280" y="4014720"/>
            <a:ext cx="35305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reuzungen verwalten diese Linkstate Informationen (3 Hop Reichweite), hier wird entschieden, welchen Weg die Pakete nehmen sol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78828E-006 L 0.06893 0.06556 E">
                                      <p:cBhvr>
                                        <p:cTn id="19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7811E-006 L -0.04027 0.06556 E">
                                      <p:cBhvr>
                                        <p:cTn id="19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486 L -0.06615 -0.05583 E">
                                      <p:cBhvr>
                                        <p:cTn id="21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ontention Based Forwarding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B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0560" y="1987560"/>
            <a:ext cx="88920" cy="903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7000" y="1628640"/>
            <a:ext cx="88920" cy="907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86280" y="2214720"/>
            <a:ext cx="88560" cy="90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22360" y="2392200"/>
            <a:ext cx="88920" cy="907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72000" y="1719360"/>
            <a:ext cx="88920" cy="90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60920" y="2436840"/>
            <a:ext cx="88920" cy="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6280" y="1717560"/>
            <a:ext cx="88920" cy="907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36640" y="1943280"/>
            <a:ext cx="88920" cy="90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0520" y="1249200"/>
            <a:ext cx="1628640" cy="1567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2320" y="1203480"/>
            <a:ext cx="1628640" cy="15667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3760" y="139860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9480" y="215100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0960" y="147312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00440" y="197964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86160" y="147312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83000" y="2201760"/>
            <a:ext cx="635040" cy="56052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49480" y="1987560"/>
            <a:ext cx="587160" cy="46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36640" y="1987560"/>
            <a:ext cx="630360" cy="449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7000" y="2273400"/>
            <a:ext cx="719280" cy="13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4840" y="2273400"/>
            <a:ext cx="586080" cy="20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67000" y="2436840"/>
            <a:ext cx="1413000" cy="4752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673280"/>
            <a:ext cx="1403640" cy="80964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7000" y="284328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284400" cy="366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2000" y="1133640"/>
            <a:ext cx="28404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1640" y="1628640"/>
            <a:ext cx="1629000" cy="1567080"/>
          </a:xfrm>
          <a:prstGeom prst="ellipse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501640" y="1133640"/>
            <a:ext cx="314280" cy="36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124080" y="2436840"/>
            <a:ext cx="28440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43160" y="2273400"/>
            <a:ext cx="671760" cy="20952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203480"/>
            <a:ext cx="427500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eine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mpfänger „entscheide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Greedy mit automatischer Unterdrückung möglicher anderer Weiterleiter in Reichweite anhand der Packe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943360" y="1289160"/>
            <a:ext cx="284040" cy="366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849400" y="1770120"/>
            <a:ext cx="930600" cy="71280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5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3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3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4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4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4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3743280"/>
            <a:ext cx="82170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P unterteilt die Teilnehmer in 3 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- Kreuzungsfahrzeuge, im Status 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- Straßenfahrzeuge, nicht in Reichweite einer Kreu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- Kreuzungsfahrzeuge, im Status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hrzeuge gelten als Kreuzungsfahrzeuge, wenn sie einen gewissen Abstand zum Mittelpunkt unterschreiten (r = 7 Meter im Kommen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1640" y="593640"/>
            <a:ext cx="6480000" cy="2835360"/>
            <a:chOff x="971640" y="593640"/>
            <a:chExt cx="6480000" cy="2835360"/>
          </a:xfrm>
        </p:grpSpPr>
        <p:sp>
          <p:nvSpPr>
            <p:cNvPr id="192" name=""/>
            <p:cNvSpPr/>
            <p:nvPr/>
          </p:nvSpPr>
          <p:spPr>
            <a:xfrm>
              <a:off x="971640" y="593640"/>
              <a:ext cx="2114640" cy="1395360"/>
            </a:xfrm>
            <a:custGeom>
              <a:avLst/>
              <a:gdLst/>
              <a:ahLst/>
              <a:rect l="l" t="t" r="r" b="b"/>
              <a:pathLst>
                <a:path w="1332" h="879">
                  <a:moveTo>
                    <a:pt x="0" y="879"/>
                  </a:moveTo>
                  <a:lnTo>
                    <a:pt x="454" y="879"/>
                  </a:lnTo>
                  <a:lnTo>
                    <a:pt x="1332" y="454"/>
                  </a:lnTo>
                  <a:lnTo>
                    <a:pt x="13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92360" y="593640"/>
              <a:ext cx="3959280" cy="674640"/>
            </a:xfrm>
            <a:custGeom>
              <a:avLst/>
              <a:gdLst/>
              <a:ahLst/>
              <a:rect l="l" t="t" r="r" b="b"/>
              <a:pathLst>
                <a:path w="2494" h="425">
                  <a:moveTo>
                    <a:pt x="0" y="0"/>
                  </a:moveTo>
                  <a:lnTo>
                    <a:pt x="0" y="425"/>
                  </a:lnTo>
                  <a:lnTo>
                    <a:pt x="2494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71640" y="1763640"/>
              <a:ext cx="2114640" cy="1575000"/>
            </a:xfrm>
            <a:custGeom>
              <a:avLst/>
              <a:gdLst/>
              <a:ahLst/>
              <a:rect l="l" t="t" r="r" b="b"/>
              <a:pathLst>
                <a:path w="1332" h="992">
                  <a:moveTo>
                    <a:pt x="0" y="425"/>
                  </a:moveTo>
                  <a:lnTo>
                    <a:pt x="454" y="425"/>
                  </a:lnTo>
                  <a:lnTo>
                    <a:pt x="1332" y="0"/>
                  </a:lnTo>
                  <a:lnTo>
                    <a:pt x="1332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2360" y="1719360"/>
              <a:ext cx="3105360" cy="1709640"/>
            </a:xfrm>
            <a:custGeom>
              <a:avLst/>
              <a:gdLst/>
              <a:ahLst/>
              <a:rect l="l" t="t" r="r" b="b"/>
              <a:pathLst>
                <a:path w="1956" h="1077">
                  <a:moveTo>
                    <a:pt x="0" y="1020"/>
                  </a:moveTo>
                  <a:lnTo>
                    <a:pt x="0" y="0"/>
                  </a:lnTo>
                  <a:lnTo>
                    <a:pt x="793" y="0"/>
                  </a:lnTo>
                  <a:lnTo>
                    <a:pt x="1956" y="10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7000" y="1719360"/>
              <a:ext cx="2114640" cy="1709640"/>
            </a:xfrm>
            <a:custGeom>
              <a:avLst/>
              <a:gdLst/>
              <a:ahLst/>
              <a:rect l="l" t="t" r="r" b="b"/>
              <a:pathLst>
                <a:path w="1332" h="1077">
                  <a:moveTo>
                    <a:pt x="1332" y="0"/>
                  </a:moveTo>
                  <a:lnTo>
                    <a:pt x="0" y="0"/>
                  </a:lnTo>
                  <a:lnTo>
                    <a:pt x="1162" y="10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2360" y="1335240"/>
              <a:ext cx="223920" cy="13464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7000" y="1335240"/>
              <a:ext cx="223920" cy="13464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51280" y="153036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268080" y="104436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3133440" y="1809720"/>
              <a:ext cx="22356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3567600">
              <a:off x="5173200" y="180000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40560" y="1530360"/>
              <a:ext cx="22356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3760" y="1530360"/>
              <a:ext cx="22356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02360" y="15303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97720" y="1335240"/>
              <a:ext cx="22392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80040" y="1333440"/>
              <a:ext cx="22356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8800" y="15303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51280" y="1335240"/>
              <a:ext cx="22392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71640" y="207972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67000" y="2214720"/>
              <a:ext cx="22356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620000">
              <a:off x="2246040" y="18939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520000">
              <a:off x="5627160" y="2214720"/>
              <a:ext cx="22392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520000">
              <a:off x="5963760" y="275400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520000">
              <a:off x="6366960" y="282060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3088800" y="22809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3268080" y="286524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3088800" y="63792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9589200">
              <a:off x="3044520" y="1401120"/>
              <a:ext cx="223920" cy="1350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4881600" y="1335240"/>
              <a:ext cx="223920" cy="134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28800" y="1022400"/>
              <a:ext cx="1079640" cy="9666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65520" y="1062000"/>
              <a:ext cx="1079640" cy="9669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73200" y="4381560"/>
            <a:ext cx="22356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20" y="469440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672840" y="5003280"/>
            <a:ext cx="22356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3924000"/>
            <a:ext cx="821700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 Zustand bei Ankunft in Kreuz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hmen nicht direkt an der Weiterleitung t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nehmen in letzter Instanz CBF Weiterleitung der Streetnodes, sollte kein Kreuzungs-Master 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41280" y="1089000"/>
            <a:ext cx="6301080" cy="2519280"/>
            <a:chOff x="1241280" y="1089000"/>
            <a:chExt cx="6301080" cy="2519280"/>
          </a:xfrm>
        </p:grpSpPr>
        <p:sp>
          <p:nvSpPr>
            <p:cNvPr id="229" name=""/>
            <p:cNvSpPr/>
            <p:nvPr/>
          </p:nvSpPr>
          <p:spPr>
            <a:xfrm>
              <a:off x="1241280" y="2619360"/>
              <a:ext cx="1440000" cy="988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41280" y="1112760"/>
              <a:ext cx="1440000" cy="11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32000" y="1089000"/>
              <a:ext cx="4275360" cy="1125720"/>
            </a:xfrm>
            <a:custGeom>
              <a:avLst/>
              <a:gdLst/>
              <a:ahLst/>
              <a:rect l="l" t="t" r="r" b="b"/>
              <a:pathLst>
                <a:path w="2693" h="709">
                  <a:moveTo>
                    <a:pt x="0" y="0"/>
                  </a:moveTo>
                  <a:lnTo>
                    <a:pt x="0" y="709"/>
                  </a:lnTo>
                  <a:lnTo>
                    <a:pt x="1701" y="709"/>
                  </a:lnTo>
                  <a:lnTo>
                    <a:pt x="2693" y="283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2000" y="1898640"/>
              <a:ext cx="4410360" cy="1709640"/>
            </a:xfrm>
            <a:custGeom>
              <a:avLst/>
              <a:gdLst/>
              <a:ahLst/>
              <a:rect l="l" t="t" r="r" b="b"/>
              <a:pathLst>
                <a:path w="2778" h="1077">
                  <a:moveTo>
                    <a:pt x="0" y="1077"/>
                  </a:moveTo>
                  <a:lnTo>
                    <a:pt x="0" y="454"/>
                  </a:lnTo>
                  <a:lnTo>
                    <a:pt x="1786" y="454"/>
                  </a:lnTo>
                  <a:lnTo>
                    <a:pt x="277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1280" y="1898640"/>
              <a:ext cx="1079640" cy="9669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54680" y="226368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710800" y="201744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40920" y="4193640"/>
            <a:ext cx="821700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lave-Ursprungspakete werden zum Master der Kreuzung weiter geg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Umgebungs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593640"/>
            <a:ext cx="2114640" cy="1395360"/>
          </a:xfrm>
          <a:custGeom>
            <a:avLst/>
            <a:gdLst/>
            <a:ahLst/>
            <a:rect l="l" t="t" r="r" b="b"/>
            <a:pathLst>
              <a:path w="1332" h="879">
                <a:moveTo>
                  <a:pt x="0" y="879"/>
                </a:moveTo>
                <a:lnTo>
                  <a:pt x="454" y="879"/>
                </a:lnTo>
                <a:lnTo>
                  <a:pt x="1332" y="454"/>
                </a:lnTo>
                <a:lnTo>
                  <a:pt x="133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593640"/>
            <a:ext cx="3959280" cy="674640"/>
          </a:xfrm>
          <a:custGeom>
            <a:avLst/>
            <a:gdLst/>
            <a:ahLst/>
            <a:rect l="l" t="t" r="r" b="b"/>
            <a:pathLst>
              <a:path w="2494" h="425">
                <a:moveTo>
                  <a:pt x="0" y="0"/>
                </a:moveTo>
                <a:lnTo>
                  <a:pt x="0" y="425"/>
                </a:lnTo>
                <a:lnTo>
                  <a:pt x="2494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1763640"/>
            <a:ext cx="2114640" cy="1575000"/>
          </a:xfrm>
          <a:custGeom>
            <a:avLst/>
            <a:gdLst/>
            <a:ahLst/>
            <a:rect l="l" t="t" r="r" b="b"/>
            <a:pathLst>
              <a:path w="1332" h="992">
                <a:moveTo>
                  <a:pt x="0" y="425"/>
                </a:moveTo>
                <a:lnTo>
                  <a:pt x="454" y="425"/>
                </a:lnTo>
                <a:lnTo>
                  <a:pt x="1332" y="0"/>
                </a:lnTo>
                <a:lnTo>
                  <a:pt x="1332" y="992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1719360"/>
            <a:ext cx="3105360" cy="1709640"/>
          </a:xfrm>
          <a:custGeom>
            <a:avLst/>
            <a:gdLst/>
            <a:ahLst/>
            <a:rect l="l" t="t" r="r" b="b"/>
            <a:pathLst>
              <a:path w="1956" h="1077">
                <a:moveTo>
                  <a:pt x="0" y="1020"/>
                </a:moveTo>
                <a:lnTo>
                  <a:pt x="0" y="0"/>
                </a:lnTo>
                <a:lnTo>
                  <a:pt x="793" y="0"/>
                </a:lnTo>
                <a:lnTo>
                  <a:pt x="1956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7000" y="1719360"/>
            <a:ext cx="2114640" cy="1709640"/>
          </a:xfrm>
          <a:custGeom>
            <a:avLst/>
            <a:gdLst/>
            <a:ahLst/>
            <a:rect l="l" t="t" r="r" b="b"/>
            <a:pathLst>
              <a:path w="1332" h="1077">
                <a:moveTo>
                  <a:pt x="1332" y="0"/>
                </a:moveTo>
                <a:lnTo>
                  <a:pt x="0" y="0"/>
                </a:lnTo>
                <a:lnTo>
                  <a:pt x="1162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700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1530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3268080" y="1044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3133440" y="1809720"/>
            <a:ext cx="22356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567600">
            <a:off x="5173200" y="180000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405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437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0236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772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0040" y="133344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5128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207972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67000" y="2214720"/>
            <a:ext cx="22356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9620000">
            <a:off x="2246040" y="18939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520000">
            <a:off x="5627160" y="221472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520000">
            <a:off x="5963760" y="27540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2520000">
            <a:off x="6366960" y="28206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3088800" y="22809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3268080" y="28652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3088800" y="63792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9589200">
            <a:off x="3044520" y="1401120"/>
            <a:ext cx="22392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4881600" y="1335240"/>
            <a:ext cx="223920" cy="134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28800" y="1022400"/>
            <a:ext cx="1079640" cy="96660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65520" y="106200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87480" y="615960"/>
            <a:ext cx="1605240" cy="1573200"/>
          </a:xfrm>
          <a:prstGeom prst="ellipse">
            <a:avLst/>
          </a:prstGeom>
          <a:noFill/>
          <a:ln w="64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2000" y="1403280"/>
            <a:ext cx="495360" cy="239760"/>
          </a:xfrm>
          <a:custGeom>
            <a:avLst/>
            <a:gdLst/>
            <a:ahLst/>
            <a:rect l="l" t="t" r="r" b="b"/>
            <a:pathLst>
              <a:path w="312" h="151">
                <a:moveTo>
                  <a:pt x="312" y="0"/>
                </a:moveTo>
                <a:cubicBezTo>
                  <a:pt x="295" y="66"/>
                  <a:pt x="279" y="133"/>
                  <a:pt x="227" y="142"/>
                </a:cubicBezTo>
                <a:cubicBezTo>
                  <a:pt x="175" y="151"/>
                  <a:pt x="38" y="71"/>
                  <a:pt x="0" y="57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46200" y="638280"/>
            <a:ext cx="1605240" cy="1573200"/>
          </a:xfrm>
          <a:prstGeom prst="ellipse">
            <a:avLst/>
          </a:prstGeom>
          <a:noFill/>
          <a:ln w="64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76640" y="1165320"/>
            <a:ext cx="809640" cy="284040"/>
          </a:xfrm>
          <a:custGeom>
            <a:avLst/>
            <a:gdLst/>
            <a:ahLst/>
            <a:rect l="l" t="t" r="r" b="b"/>
            <a:pathLst>
              <a:path w="510" h="179">
                <a:moveTo>
                  <a:pt x="0" y="179"/>
                </a:moveTo>
                <a:cubicBezTo>
                  <a:pt x="85" y="98"/>
                  <a:pt x="170" y="18"/>
                  <a:pt x="255" y="9"/>
                </a:cubicBezTo>
                <a:cubicBezTo>
                  <a:pt x="340" y="0"/>
                  <a:pt x="468" y="103"/>
                  <a:pt x="510" y="12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  <p:set>
                                      <p:cBhvr>
                                        <p:cTn id="5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8:56:12Z</dcterms:created>
  <dc:creator>Gorwen</dc:creator>
  <dc:description/>
  <dc:language>en-US</dc:language>
  <cp:lastModifiedBy>Gorwen</cp:lastModifiedBy>
  <dcterms:modified xsi:type="dcterms:W3CDTF">2004-06-28T08:52:16Z</dcterms:modified>
  <cp:revision>38</cp:revision>
  <dc:subject/>
  <dc:title>MIRP</dc:title>
</cp:coreProperties>
</file>